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3.png" ContentType="image/png"/>
  <Override PartName="/ppt/media/image3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342-107C-4F67-BC4B-17DC4D6A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702-719F-48C2-9A86-E9C9666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CF1-7AB2-483B-BF41-CD9EE267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2EA-F41F-426A-8A44-DD10816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8192-3ADA-4FC2-B667-3ACA352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2FA5-ECC2-4964-854B-6DAD0F2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3164-4D84-421E-AC6F-52E6056D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D24-A681-4621-9C6B-676B0CA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0A1-60EB-4AED-83B8-F378CFD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B3B1-2507-43A0-B44F-FF6BCD4D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A939-BD70-4B5C-A8C4-06626A65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8EA-C916-461C-BBCA-AC57C276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AA4D-C06F-4B97-83FA-56738AE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4D6C-1FF9-4045-8560-67E3F1E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E748-BE2C-42A1-A432-2E53E7C6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C72-E4E4-47BB-AAD8-088C73B4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DAA1-92BC-466D-96B8-2E1FD320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AC8-CB4D-4306-BAFE-E0A29E5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877-67E1-4771-BEF1-6934458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B84-0A4B-4AAA-B0FA-D819AFF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041-6065-466A-8E0B-53715BDF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1DA-6242-418D-911D-7697ECD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D76-D2B5-4C8D-B8D2-0E3ABD1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58F-9A2B-4A69-892C-AD129F5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A8A1-8C41-4D57-8CDB-A405BA35EB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CFE-7D94-4561-99C3-CF8AF99BCD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8/People_living_with_HIV_AIDS_world_map.PN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the spread of an idea or innovation from it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hear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other area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e process of dissemin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What slows/prevents diffus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time-distance dec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barr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slamDiffu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wide, there are 1.4 billion followers of Is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00800" y="762120"/>
            <a:ext cx="243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between 5 – 7 million Muslims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4800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4724280"/>
            <a:ext cx="3962160" cy="132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usion of 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 – 1600 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rbucks.. They're everywh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200px-E2K3_BerlinStarbucksGate"/>
          <p:cNvPicPr/>
          <p:nvPr/>
        </p:nvPicPr>
        <p:blipFill>
          <a:blip r:embed="rId1"/>
          <a:stretch/>
        </p:blipFill>
        <p:spPr>
          <a:xfrm>
            <a:off x="5943600" y="1371600"/>
            <a:ext cx="268452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tarbucks- Bejing"/>
          <p:cNvPicPr/>
          <p:nvPr/>
        </p:nvPicPr>
        <p:blipFill>
          <a:blip r:embed="rId2"/>
          <a:stretch/>
        </p:blipFill>
        <p:spPr>
          <a:xfrm>
            <a:off x="609480" y="3352680"/>
            <a:ext cx="5303880" cy="33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torefront1"/>
          <p:cNvPicPr/>
          <p:nvPr/>
        </p:nvPicPr>
        <p:blipFill>
          <a:blip r:embed="rId3"/>
          <a:stretch/>
        </p:blipFill>
        <p:spPr>
          <a:xfrm>
            <a:off x="1295280" y="1219320"/>
            <a:ext cx="31435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iffusion or (in this case) Fusion of Foo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58164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China, the chief food flavor used is so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India, the principal flavoring is cur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oth spices spread or ‘migrated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s a result,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ai foo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, influenced by both China and India, is a blend of both cuisines, yet uniquely Tha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ThaiFood"/>
          <p:cNvPicPr/>
          <p:nvPr/>
        </p:nvPicPr>
        <p:blipFill>
          <a:blip r:embed="rId1"/>
          <a:stretch/>
        </p:blipFill>
        <p:spPr>
          <a:xfrm>
            <a:off x="4959360" y="1898640"/>
            <a:ext cx="187308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haiFood2"/>
          <p:cNvPicPr/>
          <p:nvPr/>
        </p:nvPicPr>
        <p:blipFill>
          <a:blip r:embed="rId2"/>
          <a:stretch/>
        </p:blipFill>
        <p:spPr>
          <a:xfrm>
            <a:off x="6858000" y="1143000"/>
            <a:ext cx="201924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ThaiFood3"/>
          <p:cNvPicPr/>
          <p:nvPr/>
        </p:nvPicPr>
        <p:blipFill>
          <a:blip r:embed="rId3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Music, clothing and fa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New clothing &amp; music fads</a:t>
            </a:r>
            <a:br>
              <a:rPr sz="2500"/>
            </a:b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spread quickly among major world cities such as ? 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Only later do they filter down the </a:t>
            </a:r>
            <a:r>
              <a:rPr b="0" i="1" lang="en-US" sz="2500" spc="-1" strike="noStrike">
                <a:solidFill>
                  <a:srgbClr val="339933"/>
                </a:solidFill>
                <a:latin typeface="Verdana"/>
              </a:rPr>
              <a:t>urban hierarc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fashup"/>
          <p:cNvPicPr/>
          <p:nvPr/>
        </p:nvPicPr>
        <p:blipFill>
          <a:blip r:embed="rId1"/>
          <a:stretch/>
        </p:blipFill>
        <p:spPr>
          <a:xfrm>
            <a:off x="7288200" y="1289160"/>
            <a:ext cx="1495440" cy="21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_carmenmarc_0099_brownsequins_02"/>
          <p:cNvPicPr/>
          <p:nvPr/>
        </p:nvPicPr>
        <p:blipFill>
          <a:blip r:embed="rId2"/>
          <a:stretch/>
        </p:blipFill>
        <p:spPr>
          <a:xfrm>
            <a:off x="5078520" y="1125360"/>
            <a:ext cx="20844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hateveryousayiam"/>
          <p:cNvPicPr/>
          <p:nvPr/>
        </p:nvPicPr>
        <p:blipFill>
          <a:blip r:embed="rId3"/>
          <a:stretch/>
        </p:blipFill>
        <p:spPr>
          <a:xfrm>
            <a:off x="7162920" y="3986280"/>
            <a:ext cx="1681200" cy="254304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1" descr=""/>
          <p:cNvPicPr/>
          <p:nvPr/>
        </p:nvPicPr>
        <p:blipFill>
          <a:blip r:embed="rId4"/>
          <a:srcRect l="13206" t="-786" r="16398" b="-2768"/>
          <a:stretch/>
        </p:blipFill>
        <p:spPr>
          <a:xfrm>
            <a:off x="4746600" y="4259160"/>
            <a:ext cx="24382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Plants, Animals &amp; Ins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657600" cy="4876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rizona is a case study= ‘introduction of alien plant species’ due to migration of people from all over US to Arizo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udzu</a:t>
            </a: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 – from Jap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West Nile Vi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fricanized </a:t>
            </a: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iller B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9" descr="bee"/>
          <p:cNvPicPr/>
          <p:nvPr/>
        </p:nvPicPr>
        <p:blipFill>
          <a:blip r:embed="rId1"/>
          <a:stretch/>
        </p:blipFill>
        <p:spPr>
          <a:xfrm>
            <a:off x="5222880" y="2803680"/>
            <a:ext cx="3457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49ff"/>
                </a:solidFill>
                <a:latin typeface="Arial"/>
              </a:rPr>
              <a:t>Kudzu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oots are jointed &amp; often branch every two or four feet and can form separate, independent plants as the root joints di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One of the fastest growing plants around, with the ability to expand as much as 60 feet in one season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It’s very difficult to control.  It has taken over some areas of the US, such as Louisiana and Mississipp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Kudzu2"/>
          <p:cNvPicPr/>
          <p:nvPr/>
        </p:nvPicPr>
        <p:blipFill>
          <a:blip r:embed="rId1"/>
          <a:stretch/>
        </p:blipFill>
        <p:spPr>
          <a:xfrm>
            <a:off x="3657600" y="762120"/>
            <a:ext cx="5173560" cy="3317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04920" y="533520"/>
            <a:ext cx="2971800" cy="3385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Kudzu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resembles soybeans or cowp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s roots can reach a depth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8 feet and have a circumference of over three inc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stNileMap2"/>
          <p:cNvPicPr/>
          <p:nvPr/>
        </p:nvPicPr>
        <p:blipFill>
          <a:blip r:embed="rId1"/>
          <a:stretch/>
        </p:blipFill>
        <p:spPr>
          <a:xfrm>
            <a:off x="762120" y="228600"/>
            <a:ext cx="6095880" cy="662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781680" y="1752480"/>
            <a:ext cx="1905120" cy="21049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WestNileHuman01"/>
          <p:cNvPicPr/>
          <p:nvPr/>
        </p:nvPicPr>
        <p:blipFill>
          <a:blip r:embed="rId1"/>
          <a:stretch/>
        </p:blipFill>
        <p:spPr>
          <a:xfrm>
            <a:off x="0" y="0"/>
            <a:ext cx="4495680" cy="346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estNileMosquito01"/>
          <p:cNvPicPr/>
          <p:nvPr/>
        </p:nvPicPr>
        <p:blipFill>
          <a:blip r:embed="rId2"/>
          <a:stretch/>
        </p:blipFill>
        <p:spPr>
          <a:xfrm>
            <a:off x="4724280" y="345276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WestNileBird01"/>
          <p:cNvPicPr/>
          <p:nvPr/>
        </p:nvPicPr>
        <p:blipFill>
          <a:blip r:embed="rId3"/>
          <a:stretch/>
        </p:blipFill>
        <p:spPr>
          <a:xfrm>
            <a:off x="228600" y="3639960"/>
            <a:ext cx="4191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105520" y="457200"/>
            <a:ext cx="3504960" cy="229788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stribution of West Nile Vir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mans, Birds, &amp; Mosquitos, 20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cdc.gov/mmwr/preview/mmwrhtml/figures/s5902a1f1.gif"/>
          <p:cNvPicPr/>
          <p:nvPr/>
        </p:nvPicPr>
        <p:blipFill>
          <a:blip r:embed="rId1"/>
          <a:stretch/>
        </p:blipFill>
        <p:spPr>
          <a:xfrm>
            <a:off x="838080" y="228600"/>
            <a:ext cx="8305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ap west nile arizona 04"/>
          <p:cNvPicPr/>
          <p:nvPr/>
        </p:nvPicPr>
        <p:blipFill>
          <a:blip r:embed="rId1"/>
          <a:stretch/>
        </p:blipFill>
        <p:spPr>
          <a:xfrm>
            <a:off x="0" y="0"/>
            <a:ext cx="8458200" cy="6926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781680" y="3352680"/>
            <a:ext cx="2057400" cy="20437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Cases in Arizo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137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rriers to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hysical barriers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n natu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ivers, oceans, lakes, and mountain rang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Cultura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ligious belief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nguag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olitical: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a boundary/type of govt. can impede or slow the spread of “something”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conomic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factors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ople in certain places can’t afford to purchase a new commodity or technological innova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fricanized (Killer) Be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4" descr="KillerBeeSpecimen"/>
          <p:cNvPicPr/>
          <p:nvPr/>
        </p:nvPicPr>
        <p:blipFill>
          <a:blip r:embed="rId1"/>
          <a:stretch/>
        </p:blipFill>
        <p:spPr>
          <a:xfrm>
            <a:off x="533520" y="1211400"/>
            <a:ext cx="3403440" cy="259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illerBeesBadLA"/>
          <p:cNvPicPr/>
          <p:nvPr/>
        </p:nvPicPr>
        <p:blipFill>
          <a:blip r:embed="rId2"/>
          <a:stretch/>
        </p:blipFill>
        <p:spPr>
          <a:xfrm>
            <a:off x="533520" y="4114800"/>
            <a:ext cx="3200400" cy="244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BeeWaspID"/>
          <p:cNvPicPr/>
          <p:nvPr/>
        </p:nvPicPr>
        <p:blipFill>
          <a:blip r:embed="rId3"/>
          <a:stretch/>
        </p:blipFill>
        <p:spPr>
          <a:xfrm>
            <a:off x="4495680" y="1371600"/>
            <a:ext cx="42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illerBeeDistMapSAm"/>
          <p:cNvPicPr/>
          <p:nvPr/>
        </p:nvPicPr>
        <p:blipFill>
          <a:blip r:embed="rId1"/>
          <a:stretch/>
        </p:blipFill>
        <p:spPr>
          <a:xfrm>
            <a:off x="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486400" y="762120"/>
            <a:ext cx="3429000" cy="47862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iffusion of Africanized Bees after their arrival to Brazil, South Americ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KillerBeeMex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3429000"/>
            <a:ext cx="28191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ricanized Bees travel through Mexico throughout the 199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illerBeeUSMap"/>
          <p:cNvPicPr/>
          <p:nvPr/>
        </p:nvPicPr>
        <p:blipFill>
          <a:blip r:embed="rId1"/>
          <a:stretch/>
        </p:blipFill>
        <p:spPr>
          <a:xfrm>
            <a:off x="457200" y="888840"/>
            <a:ext cx="8305920" cy="596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ler Bees in the United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91764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ere did AIDS come from &amp; how did it get her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5562360" cy="5257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2 strains from east and west Africa were identified in the early 1980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Similar to strain of SIV (found in wild monkey population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Earliest documented case was a man in Kinshasa, </a:t>
            </a:r>
            <a:r>
              <a:rPr b="1" lang="en-US" sz="2100" spc="-1" strike="noStrike" u="sng">
                <a:solidFill>
                  <a:srgbClr val="3333ff"/>
                </a:solidFill>
                <a:uFillTx/>
                <a:latin typeface="Verdana"/>
              </a:rPr>
              <a:t>Congo</a:t>
            </a: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, 19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esearchers believe over time SIV evolved into HIV through a process called ‘zoonosis’ (perhaps by butchering &amp; consuming monkey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chimp"/>
          <p:cNvPicPr/>
          <p:nvPr/>
        </p:nvPicPr>
        <p:blipFill>
          <a:blip r:embed="rId1"/>
          <a:stretch/>
        </p:blipFill>
        <p:spPr>
          <a:xfrm>
            <a:off x="5943600" y="1447920"/>
            <a:ext cx="2855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70280" y="333000"/>
            <a:ext cx="2638440" cy="106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Path of AID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3200400" cy="57913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From origins in Africa, the virus diffused to other parts of the world as infected people (unknowingly) migrated out, or travelers to Africa contracted the virus and carried it hom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Haiti in the Caribbean – with African cultural heritage and connections was one of the first countries in the western hemisphere where AIDS was fou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7" descr="environmental issues carib"/>
          <p:cNvPicPr/>
          <p:nvPr/>
        </p:nvPicPr>
        <p:blipFill>
          <a:blip r:embed="rId1"/>
          <a:stretch/>
        </p:blipFill>
        <p:spPr>
          <a:xfrm>
            <a:off x="3581280" y="2097000"/>
            <a:ext cx="5562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7680" y="301320"/>
            <a:ext cx="3521160" cy="11430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atient Ze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HIV in the US is believed to have originated from a flight attendant who vacationed in Haiti’s capital, Port-au-Pri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In 1981, the sexual contacts of 40 men revealed that 8 had had direct contact with Patient Zero, and many others in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47640" y="485640"/>
            <a:ext cx="4365720" cy="7509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ffusion of AI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3581280" cy="5562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ccess to AIDS drugs differs in the developed world vs the developing worl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IDS has become a worldwide pandem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7" descr="aids world map 2001"/>
          <p:cNvPicPr/>
          <p:nvPr/>
        </p:nvPicPr>
        <p:blipFill>
          <a:blip r:embed="rId1"/>
          <a:stretch/>
        </p:blipFill>
        <p:spPr>
          <a:xfrm>
            <a:off x="4505400" y="1898640"/>
            <a:ext cx="41749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8"/>
          <p:cNvGrpSpPr/>
          <p:nvPr/>
        </p:nvGrpSpPr>
        <p:grpSpPr>
          <a:xfrm>
            <a:off x="0" y="3009960"/>
            <a:ext cx="9144000" cy="838080"/>
            <a:chOff x="0" y="3009960"/>
            <a:chExt cx="9144000" cy="838080"/>
          </a:xfrm>
        </p:grpSpPr>
        <p:sp>
          <p:nvSpPr>
            <p:cNvPr id="169" name="Rectangle 5"/>
            <p:cNvSpPr/>
            <p:nvPr/>
          </p:nvSpPr>
          <p:spPr>
            <a:xfrm>
              <a:off x="0" y="30099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0" y="300996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6666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0" y="2987640"/>
            <a:ext cx="9144000" cy="1020600"/>
            <a:chOff x="0" y="2987640"/>
            <a:chExt cx="9144000" cy="1020600"/>
          </a:xfrm>
        </p:grpSpPr>
        <p:sp>
          <p:nvSpPr>
            <p:cNvPr id="176" name="Rectangle 17"/>
            <p:cNvSpPr/>
            <p:nvPr/>
          </p:nvSpPr>
          <p:spPr>
            <a:xfrm>
              <a:off x="0" y="2987640"/>
              <a:ext cx="9144000" cy="10206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6"/>
            <p:cNvGrpSpPr/>
            <p:nvPr/>
          </p:nvGrpSpPr>
          <p:grpSpPr>
            <a:xfrm>
              <a:off x="0" y="2987640"/>
              <a:ext cx="9144000" cy="655560"/>
              <a:chOff x="0" y="2987640"/>
              <a:chExt cx="9144000" cy="655560"/>
            </a:xfrm>
          </p:grpSpPr>
          <p:sp>
            <p:nvSpPr>
              <p:cNvPr id="178" name="Rectangle 13"/>
              <p:cNvSpPr/>
              <p:nvPr/>
            </p:nvSpPr>
            <p:spPr>
              <a:xfrm>
                <a:off x="0" y="3170160"/>
                <a:ext cx="9144000" cy="4730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5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 </a:t>
                </a:r>
                <a:r>
                  <a:rPr b="0" lang="en-US" sz="49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5"/>
              <p:cNvSpPr/>
              <p:nvPr/>
            </p:nvSpPr>
            <p:spPr>
              <a:xfrm>
                <a:off x="0" y="2987640"/>
                <a:ext cx="9144000" cy="655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0" name="Rectangle 1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0" descr="http://www.alertnet.org/thefacts/imagerepository/AIDS_2004_graphic.jpg"/>
          <p:cNvPicPr/>
          <p:nvPr/>
        </p:nvPicPr>
        <p:blipFill>
          <a:blip r:embed="rId2"/>
          <a:stretch/>
        </p:blipFill>
        <p:spPr>
          <a:xfrm>
            <a:off x="1143000" y="228600"/>
            <a:ext cx="6781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Types of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- Expansion Diffu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dea or innovation that spreads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rd from the h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There are 3 sub-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Contagio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adjacently/every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Hierarchical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to specific people/places, not everywhere (selec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Stimul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idea promotes a change before people do/accept th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639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IDS in the US &amp; Sub-Saharan Afr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343400" cy="59436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the 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omosexual males &amp; intravenous drug users were among those most commonly affec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Now, AIDS cuts across all sociological boundaries (age, gender, sexual orientation, race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sub-Saharan Afr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IV/AIDS primarily affects young women (4 times as high as the rate for me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For women, AIDS progresses faster, and they die s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This greatly alters African socie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burying aids victim africa"/>
          <p:cNvPicPr/>
          <p:nvPr/>
        </p:nvPicPr>
        <p:blipFill>
          <a:blip r:embed="rId1"/>
          <a:stretch/>
        </p:blipFill>
        <p:spPr>
          <a:xfrm>
            <a:off x="4648320" y="1066680"/>
            <a:ext cx="2501640" cy="281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aids orphans"/>
          <p:cNvPicPr/>
          <p:nvPr/>
        </p:nvPicPr>
        <p:blipFill>
          <a:blip r:embed="rId2"/>
          <a:stretch/>
        </p:blipFill>
        <p:spPr>
          <a:xfrm>
            <a:off x="6696000" y="3886200"/>
            <a:ext cx="214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ids botswana 2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deblij_ch01_fig20"/>
          <p:cNvPicPr/>
          <p:nvPr/>
        </p:nvPicPr>
        <p:blipFill>
          <a:blip r:embed="rId1"/>
          <a:stretch/>
        </p:blipFill>
        <p:spPr>
          <a:xfrm>
            <a:off x="114300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eblij_ch01_fig21b"/>
          <p:cNvPicPr/>
          <p:nvPr/>
        </p:nvPicPr>
        <p:blipFill>
          <a:blip r:embed="rId1"/>
          <a:stretch/>
        </p:blipFill>
        <p:spPr>
          <a:xfrm>
            <a:off x="4441680" y="3772080"/>
            <a:ext cx="4702320" cy="30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eblij_ch01_fig21a"/>
          <p:cNvPicPr/>
          <p:nvPr/>
        </p:nvPicPr>
        <p:blipFill>
          <a:blip r:embed="rId2"/>
          <a:stretch/>
        </p:blipFill>
        <p:spPr>
          <a:xfrm>
            <a:off x="0" y="0"/>
            <a:ext cx="640080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8168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Franklin Gothic Medium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72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Franklin Gothic Medium"/>
              </a:rPr>
              <a:t>Because Hindus believe cows are holy, cows often roam the streets in villages and towns. The McDonalds restaurants in India feature veggie bur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agious diff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aces near the origin are affected fir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035" descr="contagious diffusion"/>
          <p:cNvPicPr/>
          <p:nvPr/>
        </p:nvPicPr>
        <p:blipFill>
          <a:blip r:embed="rId1"/>
          <a:stretch/>
        </p:blipFill>
        <p:spPr>
          <a:xfrm>
            <a:off x="457200" y="1403280"/>
            <a:ext cx="8381880" cy="51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4920" y="380880"/>
            <a:ext cx="8534160" cy="18925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diffusion --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enomenon begins in one place (often a large urban center), and then moves to another large center, and another, until it moves to smaller cente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effec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when phenomena spread first to major cities, then to intermediate-size places, and later to small towns and rural areas (Figure 3.3b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hierarchical diffusion"/>
          <p:cNvPicPr/>
          <p:nvPr/>
        </p:nvPicPr>
        <p:blipFill>
          <a:blip r:embed="rId1"/>
          <a:stretch/>
        </p:blipFill>
        <p:spPr>
          <a:xfrm rot="210600">
            <a:off x="597960" y="220824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- Relocation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 move to a new area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ir language, religion, and other cultural items with them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tems being diffused typically leave the original areas behind as they move to new are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Verdana"/>
              </a:rPr>
              <a:t>Example: Black Americans who moved from the rural South to the urban North during the mid-20th century brought Blues music to Chicag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amples of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Religions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Food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Cultural trends - Music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Plants/Animals/Insect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Disease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9ff"/>
                </a:solidFill>
                <a:latin typeface="Verdana"/>
              </a:rPr>
              <a:t>*You should be able to apply the type(s) of diffusion to the following slides/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07:25Z</dcterms:created>
  <dc:creator>Beth and Raun</dc:creator>
  <dc:description/>
  <dc:language>en-US</dc:language>
  <cp:lastModifiedBy>Kain, Holly</cp:lastModifiedBy>
  <dcterms:modified xsi:type="dcterms:W3CDTF">2017-08-03T21:04:16Z</dcterms:modified>
  <cp:revision>91</cp:revision>
  <dc:subject/>
  <dc:title>Diffusion</dc:title>
</cp:coreProperties>
</file>