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3.png" ContentType="image/png"/>
  <Override PartName="/ppt/media/image3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34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43F-1F04-49DC-AFE7-2681CFC2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C6B-6E7A-4046-A381-E54534E6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C5D-0899-4B9F-A609-B965CFE8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A1E-0EEF-4001-AA06-814F7AB3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2020-70DB-44C5-AD58-78410469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23AE-8D0E-4803-BF19-AFE35CE6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BD37-3F17-4C97-994D-523CDB33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6962-F3F4-4353-8CEB-B6FC7D3F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E1BD-455B-414A-A872-80FAB0DB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6CAE-E954-47EA-9D7C-C60AF7F3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E0F4-8659-407F-B66C-27150B31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F0D-35A4-47CB-AFCC-AB8E2EC9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6A1F-F3C7-485D-AE59-87E5466E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1490-FB12-41B5-840F-2D130708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AAF9-E257-4BDE-9E54-F35F53F4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98B3-3E21-4886-BD98-DB8E25ED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AEC6-5992-415E-ABF1-4DCCD09A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6AB-9BE2-4687-8D36-7E6B0002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288-092F-484D-8AB9-484DC888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438-DE86-4A51-B515-3F02814A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19A-89FD-4978-8472-7B936F54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5AB-0468-4998-B26F-B4966C2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CCB-41EC-4D51-816A-F845F7C1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994-28DD-49A7-80AE-B68F2964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C3BF-26F3-4B94-8C40-0DB5C13197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4728-1A0E-444F-A533-C3B230F42A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8/People_living_with_HIV_AIDS_world_map.PN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e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Diffus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 the spread of an idea or innovation from it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hear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other areas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he process of disseminatio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What slows/prevents diffus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- time-distance dec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- barri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IslamDiffu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529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57200" y="380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wide, there are 1.4 billion followers of Isl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400800" y="762120"/>
            <a:ext cx="243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between 5 – 7 million Muslims in the United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4800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876920" y="4724280"/>
            <a:ext cx="3962160" cy="132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usion of Isl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0 – 1600 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rbucks.. They're everywhe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200px-E2K3_BerlinStarbucksGate"/>
          <p:cNvPicPr/>
          <p:nvPr/>
        </p:nvPicPr>
        <p:blipFill>
          <a:blip r:embed="rId1"/>
          <a:stretch/>
        </p:blipFill>
        <p:spPr>
          <a:xfrm>
            <a:off x="5943600" y="1371600"/>
            <a:ext cx="268452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tarbucks- Bejing"/>
          <p:cNvPicPr/>
          <p:nvPr/>
        </p:nvPicPr>
        <p:blipFill>
          <a:blip r:embed="rId2"/>
          <a:stretch/>
        </p:blipFill>
        <p:spPr>
          <a:xfrm>
            <a:off x="609480" y="3352680"/>
            <a:ext cx="5303880" cy="330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torefront1"/>
          <p:cNvPicPr/>
          <p:nvPr/>
        </p:nvPicPr>
        <p:blipFill>
          <a:blip r:embed="rId3"/>
          <a:stretch/>
        </p:blipFill>
        <p:spPr>
          <a:xfrm>
            <a:off x="1295280" y="1219320"/>
            <a:ext cx="31435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9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iffusion or (in this case) Fusion of Food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581640" cy="4525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n China, the chief food flavor used is so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n India, the principal flavoring is cur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oth spices spread or ‘migrated’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As a result,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ai food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, influenced by both China and India, is a blend of both cuisines, yet uniquely Tha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ThaiFood"/>
          <p:cNvPicPr/>
          <p:nvPr/>
        </p:nvPicPr>
        <p:blipFill>
          <a:blip r:embed="rId1"/>
          <a:stretch/>
        </p:blipFill>
        <p:spPr>
          <a:xfrm>
            <a:off x="4959360" y="1898640"/>
            <a:ext cx="1873080" cy="993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ThaiFood2"/>
          <p:cNvPicPr/>
          <p:nvPr/>
        </p:nvPicPr>
        <p:blipFill>
          <a:blip r:embed="rId2"/>
          <a:stretch/>
        </p:blipFill>
        <p:spPr>
          <a:xfrm>
            <a:off x="6858000" y="1143000"/>
            <a:ext cx="2019240" cy="151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ThaiFood3"/>
          <p:cNvPicPr/>
          <p:nvPr/>
        </p:nvPicPr>
        <p:blipFill>
          <a:blip r:embed="rId3"/>
          <a:stretch/>
        </p:blipFill>
        <p:spPr>
          <a:xfrm>
            <a:off x="426708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0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Music, clothing and fa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New clothing &amp; music fads</a:t>
            </a:r>
            <a:br>
              <a:rPr sz="2500"/>
            </a:b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spread quickly among major world cities such as ? 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Only later do they filter down the </a:t>
            </a:r>
            <a:r>
              <a:rPr b="0" i="1" lang="en-US" sz="2500" spc="-1" strike="noStrike">
                <a:solidFill>
                  <a:srgbClr val="339933"/>
                </a:solidFill>
                <a:latin typeface="Verdana"/>
              </a:rPr>
              <a:t>urban hierarc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fashup"/>
          <p:cNvPicPr/>
          <p:nvPr/>
        </p:nvPicPr>
        <p:blipFill>
          <a:blip r:embed="rId1"/>
          <a:stretch/>
        </p:blipFill>
        <p:spPr>
          <a:xfrm>
            <a:off x="7288200" y="1289160"/>
            <a:ext cx="1495440" cy="21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im_carmenmarc_0099_brownsequins_02"/>
          <p:cNvPicPr/>
          <p:nvPr/>
        </p:nvPicPr>
        <p:blipFill>
          <a:blip r:embed="rId2"/>
          <a:stretch/>
        </p:blipFill>
        <p:spPr>
          <a:xfrm>
            <a:off x="5078520" y="1125360"/>
            <a:ext cx="20844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hateveryousayiam"/>
          <p:cNvPicPr/>
          <p:nvPr/>
        </p:nvPicPr>
        <p:blipFill>
          <a:blip r:embed="rId3"/>
          <a:stretch/>
        </p:blipFill>
        <p:spPr>
          <a:xfrm>
            <a:off x="7162920" y="3986280"/>
            <a:ext cx="1681200" cy="254304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1" descr=""/>
          <p:cNvPicPr/>
          <p:nvPr/>
        </p:nvPicPr>
        <p:blipFill>
          <a:blip r:embed="rId4"/>
          <a:srcRect l="13206" t="-786" r="16398" b="-2768"/>
          <a:stretch/>
        </p:blipFill>
        <p:spPr>
          <a:xfrm>
            <a:off x="4746600" y="4259160"/>
            <a:ext cx="24382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9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Plants, Animals &amp; Inse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657600" cy="4876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Arizona is a case study= ‘introduction of alien plant species’ due to migration of people from all over US to Arizo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Kudzu</a:t>
            </a: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 – from Jap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West Nile Vir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Africanized </a:t>
            </a: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Killer Be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9" descr="bee"/>
          <p:cNvPicPr/>
          <p:nvPr/>
        </p:nvPicPr>
        <p:blipFill>
          <a:blip r:embed="rId1"/>
          <a:stretch/>
        </p:blipFill>
        <p:spPr>
          <a:xfrm>
            <a:off x="5222880" y="2803680"/>
            <a:ext cx="3457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949ff"/>
                </a:solidFill>
                <a:latin typeface="Arial"/>
              </a:rPr>
              <a:t>Kudzu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Roots are jointed &amp; often branch every two or four feet and can form separate, independent plants as the root joints die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One of the fastest growing plants around, with the ability to expand as much as 60 feet in one season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It’s very difficult to control.  It has taken over some areas of the US, such as Louisiana and Mississipp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Kudzu2"/>
          <p:cNvPicPr/>
          <p:nvPr/>
        </p:nvPicPr>
        <p:blipFill>
          <a:blip r:embed="rId1"/>
          <a:stretch/>
        </p:blipFill>
        <p:spPr>
          <a:xfrm>
            <a:off x="3657600" y="762120"/>
            <a:ext cx="5173560" cy="3317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04920" y="533520"/>
            <a:ext cx="2971800" cy="3385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Kudzu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resembles soybeans or cowp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s roots can reach a depth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8 feet and have a circumference of over three inch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WestNileMap2"/>
          <p:cNvPicPr/>
          <p:nvPr/>
        </p:nvPicPr>
        <p:blipFill>
          <a:blip r:embed="rId1"/>
          <a:stretch/>
        </p:blipFill>
        <p:spPr>
          <a:xfrm>
            <a:off x="762120" y="228600"/>
            <a:ext cx="6095880" cy="6629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781680" y="1752480"/>
            <a:ext cx="1905120" cy="21049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WestNileHuman01"/>
          <p:cNvPicPr/>
          <p:nvPr/>
        </p:nvPicPr>
        <p:blipFill>
          <a:blip r:embed="rId1"/>
          <a:stretch/>
        </p:blipFill>
        <p:spPr>
          <a:xfrm>
            <a:off x="0" y="0"/>
            <a:ext cx="4495680" cy="3460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WestNileMosquito01"/>
          <p:cNvPicPr/>
          <p:nvPr/>
        </p:nvPicPr>
        <p:blipFill>
          <a:blip r:embed="rId2"/>
          <a:stretch/>
        </p:blipFill>
        <p:spPr>
          <a:xfrm>
            <a:off x="4724280" y="3452760"/>
            <a:ext cx="4419720" cy="34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WestNileBird01"/>
          <p:cNvPicPr/>
          <p:nvPr/>
        </p:nvPicPr>
        <p:blipFill>
          <a:blip r:embed="rId3"/>
          <a:stretch/>
        </p:blipFill>
        <p:spPr>
          <a:xfrm>
            <a:off x="228600" y="3639960"/>
            <a:ext cx="4191120" cy="3218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5105520" y="457200"/>
            <a:ext cx="3504960" cy="229788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istribution of West Nile Viru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mans, Birds, &amp; Mosquitos, 20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http://www.cdc.gov/mmwr/preview/mmwrhtml/figures/s5902a1f1.gif"/>
          <p:cNvPicPr/>
          <p:nvPr/>
        </p:nvPicPr>
        <p:blipFill>
          <a:blip r:embed="rId1"/>
          <a:stretch/>
        </p:blipFill>
        <p:spPr>
          <a:xfrm>
            <a:off x="838080" y="228600"/>
            <a:ext cx="830592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map west nile arizona 04"/>
          <p:cNvPicPr/>
          <p:nvPr/>
        </p:nvPicPr>
        <p:blipFill>
          <a:blip r:embed="rId1"/>
          <a:stretch/>
        </p:blipFill>
        <p:spPr>
          <a:xfrm>
            <a:off x="0" y="0"/>
            <a:ext cx="8458200" cy="6926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6781680" y="3352680"/>
            <a:ext cx="2057400" cy="20437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Nile Virus Cases in Arizo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1376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rriers to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3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hysical barriers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in natu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ivers, oceans, lakes, and mountain rang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Cultura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ligious belief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anguag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olitical: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a boundary/type of govt. can impede or slow the spread of “something”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Economic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factors 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eople in certain places can’t afford to purchase a new commodity or technological innovatio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fricanized (Killer) Be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4" descr="KillerBeeSpecimen"/>
          <p:cNvPicPr/>
          <p:nvPr/>
        </p:nvPicPr>
        <p:blipFill>
          <a:blip r:embed="rId1"/>
          <a:stretch/>
        </p:blipFill>
        <p:spPr>
          <a:xfrm>
            <a:off x="533520" y="1211400"/>
            <a:ext cx="3403440" cy="259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KillerBeesBadLA"/>
          <p:cNvPicPr/>
          <p:nvPr/>
        </p:nvPicPr>
        <p:blipFill>
          <a:blip r:embed="rId2"/>
          <a:stretch/>
        </p:blipFill>
        <p:spPr>
          <a:xfrm>
            <a:off x="533520" y="4114800"/>
            <a:ext cx="3200400" cy="2443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BeeWaspID"/>
          <p:cNvPicPr/>
          <p:nvPr/>
        </p:nvPicPr>
        <p:blipFill>
          <a:blip r:embed="rId3"/>
          <a:stretch/>
        </p:blipFill>
        <p:spPr>
          <a:xfrm>
            <a:off x="4495680" y="1371600"/>
            <a:ext cx="428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KillerBeeDistMapSAm"/>
          <p:cNvPicPr/>
          <p:nvPr/>
        </p:nvPicPr>
        <p:blipFill>
          <a:blip r:embed="rId1"/>
          <a:stretch/>
        </p:blipFill>
        <p:spPr>
          <a:xfrm>
            <a:off x="0" y="0"/>
            <a:ext cx="531036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486400" y="762120"/>
            <a:ext cx="3429000" cy="47862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iffusion of Africanized Bees after their arrival to Brazil, South Americ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KillerBeeMex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04920" y="3429000"/>
            <a:ext cx="281916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ricanized Bees travel through Mexico throughout the 1990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KillerBeeUSMap"/>
          <p:cNvPicPr/>
          <p:nvPr/>
        </p:nvPicPr>
        <p:blipFill>
          <a:blip r:embed="rId1"/>
          <a:stretch/>
        </p:blipFill>
        <p:spPr>
          <a:xfrm>
            <a:off x="457200" y="888840"/>
            <a:ext cx="8305920" cy="5969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533520" y="3049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ller Bees in the United St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91764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ere did AIDS come from &amp; how did it get here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5562360" cy="5257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2 strains from east and west Africa were identified in the early 1980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Similar to strain of SIV (found in wild monkey population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Earliest documented case was a man in Kinshasa, </a:t>
            </a:r>
            <a:r>
              <a:rPr b="1" lang="en-US" sz="2100" spc="-1" strike="noStrike" u="sng">
                <a:solidFill>
                  <a:srgbClr val="3333ff"/>
                </a:solidFill>
                <a:uFillTx/>
                <a:latin typeface="Verdana"/>
              </a:rPr>
              <a:t>Congo</a:t>
            </a: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, 195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Researchers believe over time SIV evolved into HIV through a process called ‘zoonosis’ (perhaps by butchering &amp; consuming monkey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chimp"/>
          <p:cNvPicPr/>
          <p:nvPr/>
        </p:nvPicPr>
        <p:blipFill>
          <a:blip r:embed="rId1"/>
          <a:stretch/>
        </p:blipFill>
        <p:spPr>
          <a:xfrm>
            <a:off x="5943600" y="1447920"/>
            <a:ext cx="2855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70280" y="333000"/>
            <a:ext cx="2638440" cy="106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Path of AID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3200400" cy="57913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Verdana"/>
              </a:rPr>
              <a:t>From origins in Africa, the virus diffused to other parts of the world as infected people (unknowingly) migrated out, or travelers to Africa contracted the virus and carried it hom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Verdana"/>
              </a:rPr>
              <a:t>Haiti in the Caribbean – with African cultural heritage and connections was one of the first countries in the western hemisphere where AIDS was foun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7" descr="environmental issues carib"/>
          <p:cNvPicPr/>
          <p:nvPr/>
        </p:nvPicPr>
        <p:blipFill>
          <a:blip r:embed="rId1"/>
          <a:stretch/>
        </p:blipFill>
        <p:spPr>
          <a:xfrm>
            <a:off x="3581280" y="2097000"/>
            <a:ext cx="5562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77680" y="301320"/>
            <a:ext cx="3521160" cy="11430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Patient Zer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525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ff"/>
                </a:solidFill>
                <a:latin typeface="Verdana"/>
              </a:rPr>
              <a:t>HIV in the US is believed to have originated from a flight attendant who vacationed in Haiti’s capital, Port-au-Pri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ff"/>
                </a:solidFill>
                <a:latin typeface="Verdana"/>
              </a:rPr>
              <a:t>In 1981, the sexual contacts of 40 men revealed that 8 had had direct contact with Patient Zero, and many others in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47640" y="485640"/>
            <a:ext cx="4365720" cy="75096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Diffusion of AI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3581280" cy="55627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ccess to AIDS drugs differs in the developed world vs the developing worl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IDS has become a worldwide pandem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7" descr="aids world map 2001"/>
          <p:cNvPicPr/>
          <p:nvPr/>
        </p:nvPicPr>
        <p:blipFill>
          <a:blip r:embed="rId1"/>
          <a:stretch/>
        </p:blipFill>
        <p:spPr>
          <a:xfrm>
            <a:off x="4505400" y="1898640"/>
            <a:ext cx="41749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8"/>
          <p:cNvGrpSpPr/>
          <p:nvPr/>
        </p:nvGrpSpPr>
        <p:grpSpPr>
          <a:xfrm>
            <a:off x="0" y="3009960"/>
            <a:ext cx="9144000" cy="838080"/>
            <a:chOff x="0" y="3009960"/>
            <a:chExt cx="9144000" cy="838080"/>
          </a:xfrm>
        </p:grpSpPr>
        <p:sp>
          <p:nvSpPr>
            <p:cNvPr id="169" name="Rectangle 5"/>
            <p:cNvSpPr/>
            <p:nvPr/>
          </p:nvSpPr>
          <p:spPr>
            <a:xfrm>
              <a:off x="0" y="30099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0" y="300996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6666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4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Rectangle 9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18"/>
          <p:cNvGrpSpPr/>
          <p:nvPr/>
        </p:nvGrpSpPr>
        <p:grpSpPr>
          <a:xfrm>
            <a:off x="0" y="2987640"/>
            <a:ext cx="9144000" cy="1020600"/>
            <a:chOff x="0" y="2987640"/>
            <a:chExt cx="9144000" cy="1020600"/>
          </a:xfrm>
        </p:grpSpPr>
        <p:sp>
          <p:nvSpPr>
            <p:cNvPr id="176" name="Rectangle 17"/>
            <p:cNvSpPr/>
            <p:nvPr/>
          </p:nvSpPr>
          <p:spPr>
            <a:xfrm>
              <a:off x="0" y="2987640"/>
              <a:ext cx="9144000" cy="102060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7" name="Group 16"/>
            <p:cNvGrpSpPr/>
            <p:nvPr/>
          </p:nvGrpSpPr>
          <p:grpSpPr>
            <a:xfrm>
              <a:off x="0" y="2987640"/>
              <a:ext cx="9144000" cy="655560"/>
              <a:chOff x="0" y="2987640"/>
              <a:chExt cx="9144000" cy="655560"/>
            </a:xfrm>
          </p:grpSpPr>
          <p:sp>
            <p:nvSpPr>
              <p:cNvPr id="178" name="Rectangle 13"/>
              <p:cNvSpPr/>
              <p:nvPr/>
            </p:nvSpPr>
            <p:spPr>
              <a:xfrm>
                <a:off x="0" y="3170160"/>
                <a:ext cx="9144000" cy="4730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50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6666"/>
                    </a:solidFill>
                    <a:latin typeface="Verdana"/>
                  </a:rPr>
                  <a:t> </a:t>
                </a:r>
                <a:r>
                  <a:rPr b="0" lang="en-US" sz="4900" spc="-1" strike="noStrike">
                    <a:solidFill>
                      <a:srgbClr val="666666"/>
                    </a:solidFill>
                    <a:latin typeface="Verdana"/>
                  </a:rPr>
                  <a:t> </a:t>
                </a:r>
                <a:r>
                  <a:rPr b="0" lang="en-US" sz="1800" spc="-1" strike="noStrike">
                    <a:solidFill>
                      <a:srgbClr val="666666"/>
                    </a:solidFill>
                    <a:latin typeface="Verdana"/>
                  </a:rPr>
                  <a:t>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Rectangle 15"/>
              <p:cNvSpPr/>
              <p:nvPr/>
            </p:nvSpPr>
            <p:spPr>
              <a:xfrm>
                <a:off x="0" y="2987640"/>
                <a:ext cx="9144000" cy="655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0" name="Rectangle 19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30" descr="http://www.alertnet.org/thefacts/imagerepository/AIDS_2004_graphic.jpg"/>
          <p:cNvPicPr/>
          <p:nvPr/>
        </p:nvPicPr>
        <p:blipFill>
          <a:blip r:embed="rId2"/>
          <a:stretch/>
        </p:blipFill>
        <p:spPr>
          <a:xfrm>
            <a:off x="1143000" y="228600"/>
            <a:ext cx="67816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 Types of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- Expansion Diffus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dea or innovation that spreads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ward from the hea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*There are 3 sub-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forms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Contagious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spreads adjacently/everyw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Hierarchical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spreads to specific people/places, not everywhere (selecti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Stimulus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idea promotes a change before people do/accept th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13400" cy="6397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IDS in the US &amp; Sub-Saharan Afric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4343400" cy="59436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In the 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Homosexual males &amp; intravenous drug users were among those most commonly affect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Now, AIDS cuts across all sociological boundaries (age, gender, sexual orientation, race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In sub-Saharan Afr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HIV/AIDS primarily affects young women (4 times as high as the rate for me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For women, AIDS progresses faster, and they die s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This greatly alters African socie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4" descr="burying aids victim africa"/>
          <p:cNvPicPr/>
          <p:nvPr/>
        </p:nvPicPr>
        <p:blipFill>
          <a:blip r:embed="rId1"/>
          <a:stretch/>
        </p:blipFill>
        <p:spPr>
          <a:xfrm>
            <a:off x="4648320" y="1066680"/>
            <a:ext cx="2501640" cy="2819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aids orphans"/>
          <p:cNvPicPr/>
          <p:nvPr/>
        </p:nvPicPr>
        <p:blipFill>
          <a:blip r:embed="rId2"/>
          <a:stretch/>
        </p:blipFill>
        <p:spPr>
          <a:xfrm>
            <a:off x="6696000" y="3886200"/>
            <a:ext cx="214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ids botswana 202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deblij_ch01_fig20"/>
          <p:cNvPicPr/>
          <p:nvPr/>
        </p:nvPicPr>
        <p:blipFill>
          <a:blip r:embed="rId1"/>
          <a:stretch/>
        </p:blipFill>
        <p:spPr>
          <a:xfrm>
            <a:off x="1143000" y="0"/>
            <a:ext cx="49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eblij_ch01_fig21b"/>
          <p:cNvPicPr/>
          <p:nvPr/>
        </p:nvPicPr>
        <p:blipFill>
          <a:blip r:embed="rId1"/>
          <a:stretch/>
        </p:blipFill>
        <p:spPr>
          <a:xfrm>
            <a:off x="4441680" y="3772080"/>
            <a:ext cx="4702320" cy="30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eblij_ch01_fig21a"/>
          <p:cNvPicPr/>
          <p:nvPr/>
        </p:nvPicPr>
        <p:blipFill>
          <a:blip r:embed="rId2"/>
          <a:stretch/>
        </p:blipFill>
        <p:spPr>
          <a:xfrm>
            <a:off x="0" y="0"/>
            <a:ext cx="640080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81680" y="990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Franklin Gothic Medium"/>
              </a:rPr>
              <a:t>Stimulus Diffu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7200" y="45720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Franklin Gothic Medium"/>
              </a:rPr>
              <a:t>Because Hindus believe cows are holy, cows often roam the streets in villages and towns. The McDonalds restaurants in India feature veggie bur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agious diffu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laces near the origin are affected fir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035" descr="contagious diffusion"/>
          <p:cNvPicPr/>
          <p:nvPr/>
        </p:nvPicPr>
        <p:blipFill>
          <a:blip r:embed="rId1"/>
          <a:stretch/>
        </p:blipFill>
        <p:spPr>
          <a:xfrm>
            <a:off x="457200" y="1403280"/>
            <a:ext cx="8381880" cy="519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4920" y="380880"/>
            <a:ext cx="8534160" cy="18925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ical diffusion --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henomenon begins in one place (often a large urban center), and then moves to another large center, and another, until it moves to smaller center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 effec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when phenomena spread first to major cities, then to intermediate-size places, and later to small towns and rural areas (Figure 3.3b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hierarchical diffusion"/>
          <p:cNvPicPr/>
          <p:nvPr/>
        </p:nvPicPr>
        <p:blipFill>
          <a:blip r:embed="rId1"/>
          <a:stretch/>
        </p:blipFill>
        <p:spPr>
          <a:xfrm rot="210600">
            <a:off x="597960" y="2208240"/>
            <a:ext cx="8001000" cy="4648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-17388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- Relocation diffus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 move to a new area an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ak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eir language, religion, and other cultural items with them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tems being diffused typically leave the original areas behind as they move to new area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Verdana"/>
              </a:rPr>
              <a:t>Example: Black Americans who moved from the rural South to the urban North during the mid-20th century brought Blues music to Chicag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e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Examples of Diffus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7360"/>
            <a:ext cx="83059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Religions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Food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Cultural trends - Music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Plants/Animals/Insects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Diseases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9ff"/>
                </a:solidFill>
                <a:latin typeface="Verdana"/>
              </a:rPr>
              <a:t>*You should be able to apply the type(s) of diffusion to the following slides/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0:07:25Z</dcterms:created>
  <dc:creator>Beth and Raun</dc:creator>
  <dc:description/>
  <dc:language>en-US</dc:language>
  <cp:lastModifiedBy>Kain, Holly</cp:lastModifiedBy>
  <dcterms:modified xsi:type="dcterms:W3CDTF">2017-08-03T21:04:16Z</dcterms:modified>
  <cp:revision>91</cp:revision>
  <dc:subject/>
  <dc:title>Diffusion</dc:title>
</cp:coreProperties>
</file>